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D4E-4103-4FCC-9357-7CE0CBA4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4AA-33C0-49A2-8514-7001412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F45-9F92-4CDB-8136-A2A45C32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03C-FD39-4F77-98F6-D448D365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7085-E0C2-426E-B513-EACD0A0E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DC0D-0DB1-47D7-96E5-95E0DE48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905E-6BF4-4824-9A2D-D11F2B86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4D26-973B-41F8-B456-6A55D5CF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153E-7E59-478C-9C96-779AC744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E7C8-27CF-493A-B24A-0C46D607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B999-7AC2-4DCE-B859-8DD2FBC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ABF-D8D1-4705-9236-4E7A926B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CFFE-9A90-482B-9E49-68304DB5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A13-7548-4C7C-897F-CC682484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D59A-84E0-43DD-B072-EA74FF05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45F9-DFB6-40C6-8C87-D681F2C6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C30E-E65F-4B4F-8FBB-C783B597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276-9100-48EF-BAD9-FDC74C85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63C-4EAF-4B67-891F-5E772F90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D8F-23FD-461E-A88C-69D1040D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429-1CA0-476E-997F-8D7A6C88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942-201E-4570-8A92-22E6E339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DA7-F681-4A45-9DFD-C4368D5F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474-8DEC-4B2A-8050-890D186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22A7-2FF5-488F-83E8-97983DCD3E0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A661-87BF-43A5-9595-C41220EB5A1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to write a review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oby Wals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Department of Computer Sci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University of Y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www.cs.york.ac.uk/~tw/ph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t to d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no-entry" descr=""/>
          <p:cNvPicPr/>
          <p:nvPr/>
        </p:nvPicPr>
        <p:blipFill>
          <a:blip r:embed="rId1"/>
          <a:stretch/>
        </p:blipFill>
        <p:spPr>
          <a:xfrm>
            <a:off x="809640" y="2214720"/>
            <a:ext cx="3902040" cy="3881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ss the deadl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all hate late revie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splay partiality, bias, animosity, 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tructively criticiz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ways work out what they would need to do to fix problem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llect and share revie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earn if others agree with your opin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cken your sk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Clearly, the author fails to understand the work of Walsh in this area …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ince they mention no related work, this paper cannot be original …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This idea is too simple not to  exist already …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This work is good but I don’t understand why Bundy hasn’t done this already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1" name="rhinoceros%2520(white)" descr=""/>
          <p:cNvPicPr/>
          <p:nvPr/>
        </p:nvPicPr>
        <p:blipFill>
          <a:blip r:embed="rId1"/>
          <a:stretch/>
        </p:blipFill>
        <p:spPr>
          <a:xfrm>
            <a:off x="4863960" y="2846520"/>
            <a:ext cx="390384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thical dilem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ou are working on the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lk to Editor/Program Chai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ou already reviewed and rejected pap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ook for chan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4" name="ethics0" descr=""/>
          <p:cNvPicPr/>
          <p:nvPr/>
        </p:nvPicPr>
        <p:blipFill>
          <a:blip r:embed="rId1"/>
          <a:stretch/>
        </p:blipFill>
        <p:spPr>
          <a:xfrm>
            <a:off x="669960" y="2209680"/>
            <a:ext cx="39020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thical dilem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s journal submission already appeared at a confer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oes it extend previous appearance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 almost identical paper already appear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Unless it was at a workshop, inform Editor/Chai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7" name="li091" descr=""/>
          <p:cNvPicPr/>
          <p:nvPr/>
        </p:nvPicPr>
        <p:blipFill>
          <a:blip r:embed="rId1"/>
          <a:stretch/>
        </p:blipFill>
        <p:spPr>
          <a:xfrm>
            <a:off x="4863960" y="2286000"/>
            <a:ext cx="3903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stud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ochastic Constraint Programming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y Toby Wals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 frank, the feedback is goo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do you think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BD10689_" descr=""/>
          <p:cNvPicPr/>
          <p:nvPr/>
        </p:nvPicPr>
        <p:blipFill>
          <a:blip r:embed="rId1"/>
          <a:stretch/>
        </p:blipFill>
        <p:spPr>
          <a:xfrm>
            <a:off x="809640" y="2554200"/>
            <a:ext cx="390204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id reviewer 1 thin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ears to like 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in criticism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lationship to influence diagra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gorithm perform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hase transition too prelimina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99680" y="2449440"/>
            <a:ext cx="4277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he paper reads well. … I have a number o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remarks though. First, from a probabilistic reasoning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viewpoint, I wonder about the relationship between thi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framework and influence diagrams (or decis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iagrams). It appears to me that what you hav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efined here is very closely related …Second, from a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constraint satisfaction viewpoint: you gave us n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ndication of how well the different algorithms you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presented work in practice. … Third, I think th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iscussion on phase transition cannot be left at thi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level. It is not surprising that we have a phase transition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here, but what is interesting is the nature of thi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ransition… I think this topic is too serious to sum it u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n a small Section … [it] deserves a dedicated and mor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horough treatment. I would have preferred to see thi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space dedicated to experimental results on th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performance of presented algorithms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id reviewer 2 thin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ears to like 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y releva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oderately significant/origin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ood readability/Englis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nimal com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67320" y="2604960"/>
            <a:ext cx="3771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Total of their written comment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It would be nice to include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exact syntax of one SCprogram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as accepted by your system (?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say, for the example of Section 3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id reviewer 3 thin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gain appears to like 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y relevant, very original, moderately significa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in criticis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lationship to influence diagra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hase transition too prelimina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2286000"/>
            <a:ext cx="42973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Clearly, one could just add constraints to influenc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iagram representation and extend algorithms to exploi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hem (my preferred approach) but the approach here i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still very valid and could motivate researchers in MDP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and influence diagrams to treat constraints as special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creatures … so that their special … algorithm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can be exploited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 think the experimental portion of the paper should hav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been to compare the performance of the algorithms with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the performance of traditional MDPs or influence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diagram algorithms applied to this class of problems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and I speculate that gain can be shown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 don’t find the phase transition experiments of much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value at this stage. So, there may be a phase transition,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so what?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I recommend that the author will carefully analyze thei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model against standard influnce diagrams or factored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Times New Roman"/>
              </a:rPr>
              <a:t>MDPs and discuss the pros and cons.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id the IJCAI PC thin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per wa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ejec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ong with 75% of the other submis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less good paper (my and reviewers’ opinions) was accepte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me compens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$150,000 to be prec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IJCAI-01%2520logo" descr=""/>
          <p:cNvPicPr/>
          <p:nvPr/>
        </p:nvPicPr>
        <p:blipFill>
          <a:blip r:embed="rId1"/>
          <a:stretch/>
        </p:blipFill>
        <p:spPr>
          <a:xfrm>
            <a:off x="4863960" y="2550960"/>
            <a:ext cx="3903840" cy="32068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775480" y="567684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IJCAI 2001 log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viewing can be reward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oth to authors and to review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 constructi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nk how you would react to the re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ke on board your revie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viewers hate most being ignored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madsci1" descr=""/>
          <p:cNvPicPr/>
          <p:nvPr/>
        </p:nvPicPr>
        <p:blipFill>
          <a:blip r:embed="rId1"/>
          <a:stretch/>
        </p:blipFill>
        <p:spPr>
          <a:xfrm>
            <a:off x="809640" y="2419200"/>
            <a:ext cx="390204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s a review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y should you review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 do you review a paper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o d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are the dilemma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se stud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a revie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63600" y="2214360"/>
            <a:ext cx="4280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mething that will ruin your day” 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lan Bund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ven if it is goo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tamp of scientific qua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eedback from your pe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uture direction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bundy" descr=""/>
          <p:cNvPicPr/>
          <p:nvPr/>
        </p:nvPicPr>
        <p:blipFill>
          <a:blip r:embed="rId1"/>
          <a:stretch/>
        </p:blipFill>
        <p:spPr>
          <a:xfrm>
            <a:off x="1333440" y="2214720"/>
            <a:ext cx="2854440" cy="38811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371600" y="613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rof. Alan Bund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a review no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280" y="2437920"/>
            <a:ext cx="3762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ceptance/reje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ditors/Program committees accept/rejec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You recommend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place for bias, prejudice, personal animosity,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ough it often appears to be s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peer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45720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should you revie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coral" descr=""/>
          <p:cNvPicPr/>
          <p:nvPr/>
        </p:nvPicPr>
        <p:blipFill>
          <a:blip r:embed="rId1"/>
          <a:stretch/>
        </p:blipFill>
        <p:spPr>
          <a:xfrm>
            <a:off x="809640" y="2214720"/>
            <a:ext cx="3902040" cy="3881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You’d much rather enjoy Paph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nd so would I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But science would grind to a hal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Not immediately, of cour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sons to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u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irn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-3 reviews written/ paper writt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mo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ood reviewers write good paper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angel" descr=""/>
          <p:cNvPicPr/>
          <p:nvPr/>
        </p:nvPicPr>
        <p:blipFill>
          <a:blip r:embed="rId1"/>
          <a:stretch/>
        </p:blipFill>
        <p:spPr>
          <a:xfrm>
            <a:off x="4863960" y="2671920"/>
            <a:ext cx="39038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d reasons to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settle old sc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advance your own theories/hinder riv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 get latest resul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published papers are strictly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onfidenti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devil" descr=""/>
          <p:cNvPicPr/>
          <p:nvPr/>
        </p:nvPicPr>
        <p:blipFill>
          <a:blip r:embed="rId1"/>
          <a:stretch/>
        </p:blipFill>
        <p:spPr>
          <a:xfrm>
            <a:off x="1138320" y="2214720"/>
            <a:ext cx="32432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o you revie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d the pap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d the review for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Useful dimensions to look a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ovelty, Clarity, Importance, Timeliness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d the pap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ait a few day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d pap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rite revie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Everyone has their own metho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AN00790_" descr=""/>
          <p:cNvPicPr/>
          <p:nvPr/>
        </p:nvPicPr>
        <p:blipFill>
          <a:blip r:embed="rId1"/>
          <a:stretch/>
        </p:blipFill>
        <p:spPr>
          <a:xfrm>
            <a:off x="900000" y="2214720"/>
            <a:ext cx="37213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o you revie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t yourself in author’s sho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nk how you would like to read this re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ffer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onstructive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riticis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on’t just tell them something is inadequate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ell them how they might fix i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j0136585" descr=""/>
          <p:cNvPicPr/>
          <p:nvPr/>
        </p:nvPicPr>
        <p:blipFill>
          <a:blip r:embed="rId1"/>
          <a:stretch/>
        </p:blipFill>
        <p:spPr>
          <a:xfrm>
            <a:off x="5756400" y="2214720"/>
            <a:ext cx="21175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7T16:11:26Z</dcterms:created>
  <dc:creator>tw</dc:creator>
  <dc:description/>
  <dc:language>en-US</dc:language>
  <cp:lastModifiedBy>tw</cp:lastModifiedBy>
  <dcterms:modified xsi:type="dcterms:W3CDTF">2001-11-18T13:13:52Z</dcterms:modified>
  <cp:revision>12</cp:revision>
  <dc:subject/>
  <dc:title>How to write a review</dc:title>
</cp:coreProperties>
</file>