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7DD-6AAF-4378-8A94-D227548C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D9E-1484-4E10-B84F-CE338A8B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E24-4652-48E5-A607-07FAF7E9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8C5-9974-4427-ABE4-2A7A6594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09F3-91B9-47D6-8428-7671D49B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4582-6A4E-439E-B743-8F11973C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638-87F8-41AF-9D02-F9BD967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640A-035C-4A47-A85B-6D886253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6DD3-F4CB-4CDD-BE7E-56783EF2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A14-0AEE-4C4A-AD53-691C7C8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B981-608F-4E53-A36B-AC681F8D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3E2-E451-43C0-B321-14018A24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9AAF-E815-4925-843C-020401B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CE7-86A7-42C7-84CB-DE9FDFC3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D47-DE2A-4607-AB8A-B87410E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CD3-B939-41C7-838F-2CA1B86B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4B8-D8BF-44D8-B8C1-C38056DC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C8E-C9B0-476C-B16C-BCE4F56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E6F-DF35-462F-8A3D-431E940F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302-5B52-45BB-A67F-13B0E322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43B-F8C9-4EEE-9BC1-B3FF19AA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985-889F-4F13-8A36-B1A2EE2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325-F5C2-4BE0-A3E7-CF41FBB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C2F-4E9F-4861-A050-1BDD030D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ECF-CAE2-4086-B4F1-6DFE5F7C783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84E-B211-4561-9A58-88015BC0CB4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write a re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oby Wals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Department of Computer Sci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University of Y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www.cs.york.ac.uk/~tw/ph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t to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no-entry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ss the dead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all hate late revie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play partiality, bias, animosity, 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tructively criticiz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ways work out what they would need to do to fix proble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lect and share revi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arn if others agree with your opin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cken your sk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Clearly, the author fails to understand the work of Walsh in this area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ince they mention no related work, this paper cannot be original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his idea is too simple not to  exist already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his work is good but I don’t understand why Bundy hasn’t done this already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rhinoceros%2520(white)" descr=""/>
          <p:cNvPicPr/>
          <p:nvPr/>
        </p:nvPicPr>
        <p:blipFill>
          <a:blip r:embed="rId1"/>
          <a:stretch/>
        </p:blipFill>
        <p:spPr>
          <a:xfrm>
            <a:off x="4863960" y="2846520"/>
            <a:ext cx="39038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thical dilem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 are working on the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lk to Editor/Program Chai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 already reviewed and rejected pap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ook for chan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4" name="ethics0" descr=""/>
          <p:cNvPicPr/>
          <p:nvPr/>
        </p:nvPicPr>
        <p:blipFill>
          <a:blip r:embed="rId1"/>
          <a:stretch/>
        </p:blipFill>
        <p:spPr>
          <a:xfrm>
            <a:off x="669960" y="2209680"/>
            <a:ext cx="39020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thical dilem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 journal submission already appeared at a confer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es it extend previous appearance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almost identical paper already appea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Unless it was at a workshop, inform Editor/Chai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li091" descr=""/>
          <p:cNvPicPr/>
          <p:nvPr/>
        </p:nvPicPr>
        <p:blipFill>
          <a:blip r:embed="rId1"/>
          <a:stretch/>
        </p:blipFill>
        <p:spPr>
          <a:xfrm>
            <a:off x="4863960" y="2286000"/>
            <a:ext cx="3903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ochastic Constraint Programming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Toby Wals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 frank, the feedback is goo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do you think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BD10689_" descr=""/>
          <p:cNvPicPr/>
          <p:nvPr/>
        </p:nvPicPr>
        <p:blipFill>
          <a:blip r:embed="rId1"/>
          <a:stretch/>
        </p:blipFill>
        <p:spPr>
          <a:xfrm>
            <a:off x="809640" y="2554200"/>
            <a:ext cx="39020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1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in criticism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tionship to influence diagr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gorithm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ase transition too prelimin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99680" y="2449440"/>
            <a:ext cx="4277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 paper reads well. … I have a number o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remarks though. First, from a probabilistic reason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viewpoint, I wonder about the relationship between th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framework and influence diagrams (or decis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s). It appears to me that what you hav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efined here is very closely related …Second, from a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onstraint satisfaction viewpoint: you gave us n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ndication of how well the different algorithms you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presented work in practice. … Third, I think th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scussion on phase transition cannot be left at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level. It is not surprising that we have a phase transiti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here, but what is interesting is the nature of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ransition… I think this topic is too serious to sum it 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n a small Section … [it] deserves a dedicated and mor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orough treatment. I would have preferred to see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pace dedicated to experimental results on th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performance of presented algorithms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2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y releva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derately significant/origi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ood readability/Englis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nimal com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67320" y="2604960"/>
            <a:ext cx="3771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Total of their written comment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It would be nice to include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exact syntax of one SCprogram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as accepted by your system (?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say, for the example of Section 3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3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gain 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y relevant, very original, moderately significa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in criticis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tionship to influence diagr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ase transition too prelimin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286000"/>
            <a:ext cx="4297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learly, one could just add constraints to influenc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 representation and extend algorithms to exploi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m (my preferred approach) but the approach here 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till very valid and could motivate researchers in MD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and influence diagrams to treat constraints as special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reatures … so that their special … algorithm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an be exploited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think the experimental portion of the paper should hav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been to compare the performance of the algorithms wit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 performance of traditional MDPs or influenc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 algorithms applied to this class of problem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and I speculate that gain can be shown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don’t find the phase transition experiments of muc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value at this stage. So, there may be a phase transition,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o what?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recommend that the author will carefully analyze thei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model against standard influnce diagrams or factored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MDPs and discuss the pros and cons.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the IJCAI PC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per w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j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ong with 75% of the other sub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less good paper (my and reviewers’ opinions) was accepte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compens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$150,000 to be prec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IJCAI-01%2520logo" descr=""/>
          <p:cNvPicPr/>
          <p:nvPr/>
        </p:nvPicPr>
        <p:blipFill>
          <a:blip r:embed="rId1"/>
          <a:stretch/>
        </p:blipFill>
        <p:spPr>
          <a:xfrm>
            <a:off x="4863960" y="2550960"/>
            <a:ext cx="3903840" cy="32068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775480" y="5676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IJCAI 2001 log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viewing can be rewar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oth to authors and to revie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 constru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nk how you would react to the re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e on board your revie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viewers hate most being ignored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madsci1" descr=""/>
          <p:cNvPicPr/>
          <p:nvPr/>
        </p:nvPicPr>
        <p:blipFill>
          <a:blip r:embed="rId1"/>
          <a:stretch/>
        </p:blipFill>
        <p:spPr>
          <a:xfrm>
            <a:off x="809640" y="2419200"/>
            <a:ext cx="39020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a revie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should you revie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do you review a pape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o 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are the dilemma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se stud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a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63600" y="2214360"/>
            <a:ext cx="4280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thing that will ruin your day” 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lan Bun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ven if it is goo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tamp of scientific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edback from your pe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uture direction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bundy" descr=""/>
          <p:cNvPicPr/>
          <p:nvPr/>
        </p:nvPicPr>
        <p:blipFill>
          <a:blip r:embed="rId1"/>
          <a:stretch/>
        </p:blipFill>
        <p:spPr>
          <a:xfrm>
            <a:off x="1333440" y="2214720"/>
            <a:ext cx="2854440" cy="3881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71600" y="613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of. Alan Bund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a review no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437920"/>
            <a:ext cx="3762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eptance/rej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ditors/Program committees accept/reje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recommend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place for bias, prejudice, personal animosity,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ough it often appears to be s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eer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45720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should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coral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You’d much rather enjoy Paph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 so would I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ut science would grind to a hal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Not immediately, of cour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sons to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u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-3 reviews written/ paper writt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mo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ood reviewers write good paper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angel" descr=""/>
          <p:cNvPicPr/>
          <p:nvPr/>
        </p:nvPicPr>
        <p:blipFill>
          <a:blip r:embed="rId1"/>
          <a:stretch/>
        </p:blipFill>
        <p:spPr>
          <a:xfrm>
            <a:off x="4863960" y="2671920"/>
            <a:ext cx="39038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d reasons to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settle old sc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advance your own theories/hinder riv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get latest res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published papers are strictly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onfidenti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devil" descr=""/>
          <p:cNvPicPr/>
          <p:nvPr/>
        </p:nvPicPr>
        <p:blipFill>
          <a:blip r:embed="rId1"/>
          <a:stretch/>
        </p:blipFill>
        <p:spPr>
          <a:xfrm>
            <a:off x="1138320" y="2214720"/>
            <a:ext cx="32432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review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Useful dimensions to look 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velty, Clarity, Importance, Timeliness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ait a few da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rite revie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Everyone has their own metho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AN00790_" descr=""/>
          <p:cNvPicPr/>
          <p:nvPr/>
        </p:nvPicPr>
        <p:blipFill>
          <a:blip r:embed="rId1"/>
          <a:stretch/>
        </p:blipFill>
        <p:spPr>
          <a:xfrm>
            <a:off x="900000" y="2214720"/>
            <a:ext cx="37213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t yourself in author’s sho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nk how you would like to read this re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ffer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onstructive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riticis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n’t just tell them something is inadequate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ll them how they might fix 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j0136585" descr=""/>
          <p:cNvPicPr/>
          <p:nvPr/>
        </p:nvPicPr>
        <p:blipFill>
          <a:blip r:embed="rId1"/>
          <a:stretch/>
        </p:blipFill>
        <p:spPr>
          <a:xfrm>
            <a:off x="5756400" y="2214720"/>
            <a:ext cx="21175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16:11:26Z</dcterms:created>
  <dc:creator>tw</dc:creator>
  <dc:description/>
  <dc:language>en-US</dc:language>
  <cp:lastModifiedBy>tw</cp:lastModifiedBy>
  <dcterms:modified xsi:type="dcterms:W3CDTF">2001-11-18T13:13:52Z</dcterms:modified>
  <cp:revision>12</cp:revision>
  <dc:subject/>
  <dc:title>How to write a review</dc:title>
</cp:coreProperties>
</file>